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28371-C090-4D1E-BF30-AE025195C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CFDA-13DA-49AD-8A0E-A5B49243F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C67AB-472A-47D7-A311-B4250BBF5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F3337-A9C2-4DE0-BA3B-C12F97426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785EC-45FF-42CD-8F9B-C9C89B65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2DC8-1BD3-43DC-8313-8F84730F7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306D-78B3-4A2A-A261-88B1864C7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BD4E-6A5F-4C4B-945E-800CEDDD6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F203-37C6-473F-A4D6-7963674D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7AE4-E270-4C2F-B981-84919453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8E5D-BBF1-4906-AAD4-FC406C3C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1FDB-400E-4B94-8755-D7A51AE7E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2875-3D76-4182-BCC7-8DBD748321D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6760"/>
            <a:ext cx="7772400" cy="600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4000" spc="-1" strike="noStrike">
                <a:solidFill>
                  <a:srgbClr val="000000"/>
                </a:solidFill>
                <a:latin typeface="Calibri"/>
              </a:rPr>
              <a:t>LIGNES DIRECTRICES CONCERNANT</a:t>
            </a:r>
            <a:br>
              <a:rPr sz="4000"/>
            </a:br>
            <a:r>
              <a:rPr b="1" lang="fr-FR" sz="4000" spc="-1" strike="noStrike">
                <a:solidFill>
                  <a:srgbClr val="000000"/>
                </a:solidFill>
                <a:latin typeface="Calibri"/>
              </a:rPr>
              <a:t>LES PROCÉDURES CONTRACTUELLES À UTILISER</a:t>
            </a:r>
            <a:br>
              <a:rPr sz="4000"/>
            </a:br>
            <a:r>
              <a:rPr b="1" lang="fr-FR" sz="4000" spc="-1" strike="noStrike">
                <a:solidFill>
                  <a:srgbClr val="000000"/>
                </a:solidFill>
                <a:latin typeface="Calibri"/>
              </a:rPr>
              <a:t>EN CAS DE SITUATIONS DE CRISE ET DE SITUATIONS D'URGENCE ET POSTÉRIEURES A LA PHASE D'URGENC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56760"/>
            <a:ext cx="8229600" cy="57690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Si la procédure négociée qui est choisi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utorité contractante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1. Engage les discussion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Attribue le marché au soumissionnaire qu'elle a sélectionné.</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Rapport de négoci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MAI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haque étape de la négociation nécessite l’approbation préalable du chef de délégation</a:t>
            </a:r>
            <a:r>
              <a:rPr b="0" lang="fr-FR"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subven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Attribution directe</a:t>
            </a:r>
            <a:endParaRPr b="0" lang="en-US" sz="3000" spc="-1" strike="noStrike">
              <a:solidFill>
                <a:srgbClr val="000000"/>
              </a:solidFill>
              <a:latin typeface="Calibri"/>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utorité contractante doit élaborer un rapport expliquant la façon dont les bénéficiaires de la subvention ont été identifiés et dont les montants des subventions ont été établis, ainsi que les raisons de la décision d'attribution</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haque étape importante de la procédure nécessite l’approbation préalable du chef de délégation</a:t>
            </a:r>
            <a:r>
              <a:rPr b="0" lang="fr-FR" sz="3000" spc="-1" strike="noStrike">
                <a:solidFill>
                  <a:srgbClr val="000000"/>
                </a:solidFill>
                <a:latin typeface="Calibri"/>
              </a:rPr>
              <a:t>.</a:t>
            </a: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28760"/>
            <a:ext cx="8229600" cy="569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Programmation annuelle</a:t>
            </a:r>
            <a:r>
              <a:rPr b="0" lang="fr-FR" sz="3200" spc="-1" strike="noStrike">
                <a:solidFill>
                  <a:srgbClr val="000000"/>
                </a:solidFill>
                <a:latin typeface="Calibri"/>
              </a:rPr>
              <a:t>: Cette obligation n’est pas applicable en cas de situation de cri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alibri"/>
              </a:rPr>
              <a:t>Rétroactivité : </a:t>
            </a:r>
            <a:r>
              <a:rPr b="0" lang="fr-FR" sz="3200" spc="-1" strike="noStrike">
                <a:solidFill>
                  <a:srgbClr val="000000"/>
                </a:solidFill>
                <a:latin typeface="Calibri"/>
              </a:rPr>
              <a:t>Une subvention peut être attribuée pour une action qui a déjà commencé seulement si le demandeur peut démontrer la nécessité du démarrage de l’action avant la signature du contr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Règles de nationalité et d’origin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a dérogation doit être prévue dans la déc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EMANDE</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ar le Chef de Délég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ECIS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ar l’Ordonnateur Délégué</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près avis des DG de programmation et du Commiss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Utilisation</a:t>
            </a:r>
            <a:br>
              <a:rPr sz="4400"/>
            </a:br>
            <a:r>
              <a:rPr b="0" lang="fr-FR" sz="4400" spc="-1" strike="noStrike">
                <a:solidFill>
                  <a:srgbClr val="000000"/>
                </a:solidFill>
                <a:latin typeface="Calibri"/>
              </a:rPr>
              <a:t> des </a:t>
            </a:r>
            <a:br>
              <a:rPr sz="4400"/>
            </a:br>
            <a:r>
              <a:rPr b="0" lang="fr-FR" sz="4400" spc="-1" strike="noStrike">
                <a:solidFill>
                  <a:srgbClr val="000000"/>
                </a:solidFill>
                <a:latin typeface="Calibri"/>
              </a:rPr>
              <a:t>Procédures flexib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42600"/>
            <a:ext cx="8229600" cy="548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s contrats de subventions, les marchés de services, de fournitures et de travaux dans la région et au cours de la période couverte par la décision </a:t>
            </a:r>
            <a:r>
              <a:rPr b="1" lang="fr-FR" sz="3200" spc="-1" strike="noStrike">
                <a:solidFill>
                  <a:srgbClr val="000000"/>
                </a:solidFill>
                <a:latin typeface="Calibri"/>
              </a:rPr>
              <a:t>peuvent être attribués sans recourir aux appels d’offres ou appels à propos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00040"/>
            <a:ext cx="8229600" cy="5626080"/>
          </a:xfrm>
          <a:prstGeom prst="rect">
            <a:avLst/>
          </a:prstGeom>
          <a:noFill/>
          <a:ln w="0">
            <a:noFill/>
          </a:ln>
        </p:spPr>
        <p:txBody>
          <a:bodyPr anchor="t">
            <a:normAutofit/>
          </a:bodyPr>
          <a:p>
            <a:pPr marL="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chef de délégation </a:t>
            </a:r>
            <a:r>
              <a:rPr b="1" lang="fr-FR" sz="3200" spc="-1" strike="noStrike">
                <a:solidFill>
                  <a:srgbClr val="000000"/>
                </a:solidFill>
                <a:latin typeface="Calibri"/>
              </a:rPr>
              <a:t>a la responsabilité</a:t>
            </a:r>
            <a:r>
              <a:rPr b="0" lang="fr-FR" sz="3200" spc="-1" strike="noStrike">
                <a:solidFill>
                  <a:srgbClr val="000000"/>
                </a:solidFill>
                <a:latin typeface="Calibri"/>
              </a:rPr>
              <a:t>, au cours de la mise en œuvre du projet, </a:t>
            </a:r>
            <a:r>
              <a:rPr b="1" lang="fr-FR" sz="3200" spc="-1" strike="noStrike">
                <a:solidFill>
                  <a:srgbClr val="000000"/>
                </a:solidFill>
                <a:latin typeface="Calibri"/>
              </a:rPr>
              <a:t>d’autoriser, de contrôler et de garantir que les procédures sont appliquées</a:t>
            </a:r>
            <a:r>
              <a:rPr b="0" lang="fr-FR" sz="3200" spc="-1" strike="noStrike">
                <a:solidFill>
                  <a:srgbClr val="000000"/>
                </a:solidFill>
                <a:latin typeface="Calibri"/>
              </a:rPr>
              <a:t> de façon à assurer une bonne gestion financière.</a:t>
            </a:r>
            <a:endParaRPr b="0" lang="en-US" sz="3200" spc="-1" strike="noStrike">
              <a:solidFill>
                <a:srgbClr val="000000"/>
              </a:solidFill>
              <a:latin typeface="Calibri"/>
            </a:endParaRPr>
          </a:p>
          <a:p>
            <a:pPr marL="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Le chef de délégation ne peut en </a:t>
            </a:r>
            <a:r>
              <a:rPr b="1" lang="fr-FR" sz="3600" spc="-1" strike="noStrike" u="sng">
                <a:solidFill>
                  <a:srgbClr val="000000"/>
                </a:solidFill>
                <a:uFillTx/>
                <a:latin typeface="Calibri"/>
              </a:rPr>
              <a:t>aucun cas sous-déléguer</a:t>
            </a:r>
            <a:r>
              <a:rPr b="1" lang="fr-FR" sz="3600" spc="-1" strike="noStrike">
                <a:solidFill>
                  <a:srgbClr val="000000"/>
                </a:solidFill>
                <a:latin typeface="Calibri"/>
              </a:rPr>
              <a:t> cette responsabilité concernant le choix de la procédure au sein de son service. </a:t>
            </a:r>
            <a:endParaRPr b="0" lang="en-US" sz="3600" spc="-1" strike="noStrike">
              <a:solidFill>
                <a:srgbClr val="000000"/>
              </a:solidFill>
              <a:latin typeface="Calibri"/>
            </a:endParaRPr>
          </a:p>
          <a:p>
            <a:pPr marL="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86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PPLICATION PRATIQ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our chaque march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Demande </a:t>
            </a:r>
            <a:r>
              <a:rPr b="1" lang="fr-FR" sz="3200" spc="-1" strike="noStrike">
                <a:solidFill>
                  <a:srgbClr val="000000"/>
                </a:solidFill>
                <a:latin typeface="Calibri"/>
              </a:rPr>
              <a:t>Préalable</a:t>
            </a:r>
            <a:r>
              <a:rPr b="0" lang="fr-FR" sz="3200" spc="-1" strike="noStrike">
                <a:solidFill>
                  <a:srgbClr val="000000"/>
                </a:solidFill>
                <a:latin typeface="Calibri"/>
              </a:rPr>
              <a:t> de l’Autorité contractant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note argumenté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utorisation du chef de Délég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pplication de la procédure choisi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51" name="Connecteur droit avec flèche 6"/>
          <p:cNvCxnSpPr/>
          <p:nvPr/>
        </p:nvCxnSpPr>
        <p:spPr>
          <a:xfrm flipH="1">
            <a:off x="4428360" y="2357280"/>
            <a:ext cx="1080" cy="643320"/>
          </a:xfrm>
          <a:prstGeom prst="straightConnector1">
            <a:avLst/>
          </a:prstGeom>
          <a:ln w="9360">
            <a:solidFill>
              <a:srgbClr val="000000"/>
            </a:solidFill>
            <a:miter/>
            <a:tailEnd len="med" type="arrow" w="med"/>
          </a:ln>
        </p:spPr>
      </p:cxnSp>
      <p:cxnSp>
        <p:nvCxnSpPr>
          <p:cNvPr id="52" name="Connecteur droit avec flèche 9"/>
          <p:cNvCxnSpPr/>
          <p:nvPr/>
        </p:nvCxnSpPr>
        <p:spPr>
          <a:xfrm flipH="1">
            <a:off x="4427280" y="3499920"/>
            <a:ext cx="2160" cy="7167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marché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e chef de délégation peut décider d'appliquer une procédure impliquant un certain degré de concurrence lorsque cela est compatible avec la situation spécifiqu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 procédure simplifiée/la procédure négociée concurrentielle pour les marchés de services, de fournitures et de travaux,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la procédure restreinte (pour les marchés de servic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rocédure ouverte (pour les marchés de travaux et de fournitur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02:59Z</dcterms:created>
  <dc:creator> </dc:creator>
  <dc:description/>
  <dc:language>en-US</dc:language>
  <cp:lastModifiedBy> </cp:lastModifiedBy>
  <dcterms:modified xsi:type="dcterms:W3CDTF">2009-03-24T20:37:48Z</dcterms:modified>
  <cp:revision>5</cp:revision>
  <dc:subject/>
  <dc:title>  LIGNES DIRECTRICES CONCERNANT LES PROCÉDURES CONTRACTUELLES À UTILISER EN CAS DE SITUATIONS DE CRISE ET DE SITUATIONS D'URGENCE ET POSTÉRIEURES A LA PHASE D'URGENCE </dc:title>
</cp:coreProperties>
</file>